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2D7-64D9-487C-83AF-3D129FFD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712-D2BB-4F19-9500-54E258A7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6C3-0C73-4EBE-B05B-67296980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0D0-3FEF-4944-BF11-5305D87C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9641-4062-4BD4-9CAF-5A0A8CB8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35A3-0A53-4510-A6FA-C35A31DA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7569-463D-43C3-BA0E-B4348C6E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6A3B-5C07-4D09-82E2-427557DC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B90E-01FA-4A0D-8692-F3E302C6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F300-A839-49F2-904D-D0AA723E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FBE0-0453-439D-9C44-E69A69CC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EBA-77C5-4C3E-BA4D-349A648C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D38E-5C33-49A2-A217-F87D09A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1B77-B63D-4DA2-AEDA-E8FDF1DB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6440-12AF-42E0-A1C8-E59A42F9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DDF6-2FB4-4813-BFAF-2D4983D4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E674-DFF8-42C1-94ED-5DABDFDB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14C-CC95-4F48-BF4A-46D1042E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3BF-F7EB-4A5B-A700-5CB64FF5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88E-C727-4B80-8EBD-6D60B6BC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05A-8FCB-45CB-BB6D-00FFD223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1B8-88D9-41B3-8F05-FAB7D1FB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2D3-760C-4DA4-BF24-D8171963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9F3-DD30-4837-ACF3-B0EB29A8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67CC-15CB-49A4-A176-125E19C9237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C55D-1A1C-4D12-8740-9735285C58B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chael Oh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ntique Olive Roman"/>
              </a:rPr>
              <a:t>Il habite a Baltimore, Maryland. Michael Oher est énorme et fort. Michael Oher est amèricai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3016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ckie Cha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ackie habite à Hong Kong. Jackie est chinois. Jackie Chan est genial et amusa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ristian Bai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43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ristian habite à Wales. Christian est grand et musculaire. Christian est anglai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240" y="301320"/>
            <a:ext cx="85345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ordan Jovtchev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rdan habite en Bulgarie. Jordan est amusant et déterminé. Jordan est bulga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01320"/>
            <a:ext cx="8610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ly Raisman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y Raisman habite à Needham. Aly est musculaire est sympa. Aly est americain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7:48:34Z</dcterms:created>
  <dc:creator>sunderlanddav</dc:creator>
  <dc:description/>
  <dc:language>en-US</dc:language>
  <cp:lastModifiedBy>sunderlanddav</cp:lastModifiedBy>
  <dcterms:modified xsi:type="dcterms:W3CDTF">2012-10-03T12:33:41Z</dcterms:modified>
  <cp:revision>7</cp:revision>
  <dc:subject/>
  <dc:title>Michael Oher</dc:title>
</cp:coreProperties>
</file>